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C00-6C63-4F57-8EA4-EE102818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D9A-E881-4F28-BAF4-A96CDFD9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8A5-E411-44D8-8BFB-52650DE8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309-39D9-4294-941C-A0E754AF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A8AD-DA8E-445F-BF04-011D16E2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EFB5-C112-4D66-9B51-6B2B985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EA73-6C50-4DA6-9E94-398AF11E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A14A-5EB3-496D-B8BF-52A1BF07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9208-4823-4024-A46D-78E20DC0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3CE5-CE61-472A-8EAD-9056C240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C0F2-0B58-494A-A7ED-587AFAEC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615-6E6E-4618-AD61-23720BE1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681E-D46B-4DDA-B40A-4B4D8C6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1A78-A999-4D04-9CAC-D8E7B5CD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F1D4-CEBD-4FDD-B639-798C068D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A2BD-8DAC-4F0F-A2B3-58192FD8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F7E4-30B2-49CD-9DFB-734F6904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57B-230B-42D7-B8AA-D6A4C783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646-54AF-4427-81A0-AFFA1417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6C0-F24E-4C95-AAC0-B4F91BDE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5038-09DC-4B4A-87BE-60FC5250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1D8-E446-421F-9404-B9EC9818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485-DC3E-46D5-AA8D-BD2B5416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14F-45BB-483E-8EEF-21F5A1A7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BD86-7E1F-4952-B90A-93CE4B6E29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C46A-FF2E-45C2-AB6B-C71FF51300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54C5-E3EC-442D-941B-67908872E9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45956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uk-UA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ункціонування постачальників електроенергії на новому ринк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4360" y="393336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. БУБ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олова правління ВАТ “Прикарпаттяобленерго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B01E-1598-49AF-A0FD-3291B6E651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57160" y="214200"/>
            <a:ext cx="8001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спективи, що виникають в наслідок реформування оптового ринку для постачальників електроенерг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785880" y="1928880"/>
            <a:ext cx="807228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чальник отримає широкий спектр інструментів для задоволення потреб споживачів і більшу гнучкість при організації своєї діяльності, а саме: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оронні договори (довгостроковий інструмент, що забезпечує певну стабільність у відносинах на ринку електроенергії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ична біржа (більш гнучкий короткостроковий інструмент, що дає можливість привести контрактні обсяги купівлі електроенергії до реального споживанн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уючий ринок (можливість збалансувати попит  і  контрактні обсяги купівлі в реальному часі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CCFF-9584-4230-B408-20D9E612F7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857160" y="214200"/>
            <a:ext cx="80010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изики, що виникають в наслідок реформування оптового ринку для постачальників електроенерг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285840" y="1857240"/>
            <a:ext cx="885816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чальник стикнеться з виникненням певних ризиків, що були відсутні при нинішній організації оптового ринку, а саме: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икнення відповідальності постачальника за контрактні обсяги купівлі електроенергії перед виробником</a:t>
            </a:r>
            <a:br>
              <a:rPr sz="2500"/>
            </a:b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плата небалансів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ення рівня відповідальності постачальника перед споживачем  при відсутності належного фінансового забезпечення  (активів, гарантій, і т.д.), що потребуватиме значного вдосконалення договірної систем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остання ролі планування обсягів купівлі електроенергії та графіків навантаження , тобто залежність від достовірності інформації наданої споживач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B0ED-BF95-4928-8C98-B627DB273F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28800" y="285840"/>
            <a:ext cx="76467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хема функціонування ринку в перехідний період (етапи 1-2) і види постачальників на ри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углом 4"/>
          <p:cNvSpPr/>
          <p:nvPr/>
        </p:nvSpPr>
        <p:spPr>
          <a:xfrm rot="5400000">
            <a:off x="5785920" y="1857240"/>
            <a:ext cx="571680" cy="142884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углом 5"/>
          <p:cNvSpPr/>
          <p:nvPr/>
        </p:nvSpPr>
        <p:spPr>
          <a:xfrm flipV="1" rot="5400000">
            <a:off x="2464560" y="1893240"/>
            <a:ext cx="642960" cy="142848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6"/>
          <p:cNvSpPr/>
          <p:nvPr/>
        </p:nvSpPr>
        <p:spPr>
          <a:xfrm>
            <a:off x="3500280" y="2000160"/>
            <a:ext cx="1857600" cy="7146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785880" y="2928960"/>
            <a:ext cx="3000240" cy="1214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 (діюча модель ринку)</a:t>
            </a:r>
            <a:r>
              <a:rPr b="0" lang="uk-UA" sz="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5072040" y="2857680"/>
            <a:ext cx="2928960" cy="1285560"/>
          </a:xfrm>
          <a:prstGeom prst="rect">
            <a:avLst/>
          </a:prstGeom>
          <a:solidFill>
            <a:srgbClr val="00e4a8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нок двосторонніх догов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Штриховая стрелка вправо 9"/>
          <p:cNvSpPr/>
          <p:nvPr/>
        </p:nvSpPr>
        <p:spPr>
          <a:xfrm rot="5400000">
            <a:off x="1928520" y="4286160"/>
            <a:ext cx="571320" cy="42876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Штриховая стрелка вправо 10"/>
          <p:cNvSpPr/>
          <p:nvPr/>
        </p:nvSpPr>
        <p:spPr>
          <a:xfrm rot="5400000">
            <a:off x="6286320" y="4286160"/>
            <a:ext cx="571320" cy="42876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с одним вырезанным скругленным углом 12"/>
          <p:cNvSpPr/>
          <p:nvPr/>
        </p:nvSpPr>
        <p:spPr>
          <a:xfrm>
            <a:off x="857160" y="4857840"/>
            <a:ext cx="2786040" cy="1643040"/>
          </a:xfrm>
          <a:prstGeom prst="pie">
            <a:avLst/>
          </a:prstGeom>
          <a:solidFill>
            <a:srgbClr val="d1d1f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чальники  за  регульованим тарифом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ленер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с одним вырезанным скругленным углом 13"/>
          <p:cNvSpPr/>
          <p:nvPr/>
        </p:nvSpPr>
        <p:spPr>
          <a:xfrm flipH="1">
            <a:off x="5072040" y="4857840"/>
            <a:ext cx="3000240" cy="164304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овані постачальник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валіфіковані споживач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304A-7B33-4AB9-BB9F-8F74A2B71C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928800" y="214200"/>
            <a:ext cx="76467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ласифікація постачальників в  перехідний період (етапи 1-2) та критерії віднесення їх до певного ви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14200" y="1928880"/>
            <a:ext cx="8929800" cy="48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валіфіковані постачальники (кваліфіковані споживачі), постачальники, які отримають доступ до нового ринку на перших етапах у разі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явності відповідної системи обліку електроенергії у споживач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явності відповідної ліцензі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ості у “портфелі” споживачів, яким електроенергія реалізується за регульованими (дотаційними) тарифами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ачальники за регульованим тарифом (обленерго) не мають права купувати електроенергію на ринку двосторонніх договорів, купують її лише в пулі та здійснюють постачання некваліфікованим споживачам,  дотаційним   групам  споживачів   і   кваліфікованим споживачам, що  не  купують   електроенергію  у   кваліфікованих постачальників на ринку двосторонніх договорів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293B-F007-4E8A-8FA4-92AAF9D29D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28800" y="285840"/>
            <a:ext cx="76467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хема функціонування ринку на 3 етапі реформування і види постачальників на ри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углом 4"/>
          <p:cNvSpPr/>
          <p:nvPr/>
        </p:nvSpPr>
        <p:spPr>
          <a:xfrm rot="5400000">
            <a:off x="6143040" y="1500120"/>
            <a:ext cx="642960" cy="221436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углом 5"/>
          <p:cNvSpPr/>
          <p:nvPr/>
        </p:nvSpPr>
        <p:spPr>
          <a:xfrm flipV="1" rot="5400000">
            <a:off x="2143080" y="1571760"/>
            <a:ext cx="642960" cy="207144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6"/>
          <p:cNvSpPr/>
          <p:nvPr/>
        </p:nvSpPr>
        <p:spPr>
          <a:xfrm>
            <a:off x="3500280" y="2000160"/>
            <a:ext cx="1857600" cy="7146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7"/>
          <p:cNvSpPr/>
          <p:nvPr/>
        </p:nvSpPr>
        <p:spPr>
          <a:xfrm>
            <a:off x="2786040" y="3071880"/>
            <a:ext cx="3357720" cy="114300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товий ринок (енергобірж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571680" y="2928960"/>
            <a:ext cx="2143080" cy="1285920"/>
          </a:xfrm>
          <a:prstGeom prst="rect">
            <a:avLst/>
          </a:prstGeom>
          <a:solidFill>
            <a:srgbClr val="00e4a8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нок двосторонніх догов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с одним вырезанным скругленным углом 12"/>
          <p:cNvSpPr/>
          <p:nvPr/>
        </p:nvSpPr>
        <p:spPr>
          <a:xfrm>
            <a:off x="1428840" y="5143680"/>
            <a:ext cx="2786040" cy="1571400"/>
          </a:xfrm>
          <a:prstGeom prst="pie">
            <a:avLst/>
          </a:prstGeom>
          <a:solidFill>
            <a:srgbClr val="d1d1f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овані постача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с одним вырезанным скругленным углом 13"/>
          <p:cNvSpPr/>
          <p:nvPr/>
        </p:nvSpPr>
        <p:spPr>
          <a:xfrm flipH="1">
            <a:off x="4500720" y="5143680"/>
            <a:ext cx="3000240" cy="157140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овані постачальник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валіфіковані споживач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низ 14"/>
          <p:cNvSpPr/>
          <p:nvPr/>
        </p:nvSpPr>
        <p:spPr>
          <a:xfrm>
            <a:off x="4214880" y="271476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с двумя скругленными соседними углами 15"/>
          <p:cNvSpPr/>
          <p:nvPr/>
        </p:nvSpPr>
        <p:spPr>
          <a:xfrm>
            <a:off x="6357960" y="2928960"/>
            <a:ext cx="2071800" cy="1285920"/>
          </a:xfrm>
          <a:prstGeom prst="pie">
            <a:avLst/>
          </a:prstGeom>
          <a:solidFill>
            <a:srgbClr val="00e4a8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уючий ри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Штриховая стрелка вправо 16"/>
          <p:cNvSpPr/>
          <p:nvPr/>
        </p:nvSpPr>
        <p:spPr>
          <a:xfrm rot="5400000">
            <a:off x="1436760" y="4222800"/>
            <a:ext cx="428400" cy="41256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Штриховая стрелка вправо 17"/>
          <p:cNvSpPr/>
          <p:nvPr/>
        </p:nvSpPr>
        <p:spPr>
          <a:xfrm rot="5400000">
            <a:off x="7222680" y="4222440"/>
            <a:ext cx="428400" cy="41292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Штриховая стрелка вправо 18"/>
          <p:cNvSpPr/>
          <p:nvPr/>
        </p:nvSpPr>
        <p:spPr>
          <a:xfrm rot="5400000">
            <a:off x="4206960" y="4222800"/>
            <a:ext cx="428400" cy="41256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9"/>
          <p:cNvSpPr/>
          <p:nvPr/>
        </p:nvSpPr>
        <p:spPr>
          <a:xfrm>
            <a:off x="1357200" y="4643280"/>
            <a:ext cx="6357960" cy="46080"/>
          </a:xfrm>
          <a:prstGeom prst="rect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Штриховая стрелка вправо 20"/>
          <p:cNvSpPr/>
          <p:nvPr/>
        </p:nvSpPr>
        <p:spPr>
          <a:xfrm rot="5400000">
            <a:off x="2722320" y="4722840"/>
            <a:ext cx="428760" cy="41256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Штриховая стрелка вправо 21"/>
          <p:cNvSpPr/>
          <p:nvPr/>
        </p:nvSpPr>
        <p:spPr>
          <a:xfrm rot="5400000">
            <a:off x="5778000" y="4722840"/>
            <a:ext cx="428760" cy="412920"/>
          </a:xfrm>
          <a:prstGeom prst="pie">
            <a:avLst/>
          </a:prstGeom>
          <a:solidFill>
            <a:srgbClr val="ffe99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5647-47C4-4B1A-BF5E-2550734753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928800" y="214200"/>
            <a:ext cx="76467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рансформація видів постачальників на 3 етапі перехідного періоду. Гарантовані постачаль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285840" y="2286000"/>
            <a:ext cx="871524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ід до 3 етапу реформування ринку характеризується усуненням з ринку Постачальників за регульованим тарифом і появою нового виду - Гарантованих постачаль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терії, що характеризують Гарантованих постачальник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явність відповідної ліцензі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ують постачання електроенергії некваліфікованим споживачам та споживачам з регульованими тарифа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ускні тарифи підлягатимуть державному регулюванн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CBCB-3645-4DE4-A7E1-EEC3EC9723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28800" y="214200"/>
            <a:ext cx="76467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блеми при переході до нової моделі ринку, пов</a:t>
            </a:r>
            <a:r>
              <a:rPr b="1" lang="en-US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’</a:t>
            </a:r>
            <a:r>
              <a:rPr b="1" lang="uk-UA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язані з державною політикою</a:t>
            </a:r>
            <a:r>
              <a:rPr b="1" lang="en-US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uk-UA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 сфері соціального захисту населенн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285840" y="1857240"/>
            <a:ext cx="885816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яг дотацій, п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аних із встановленням фіксованих тарифів для населення, досяг значних розмірів, що спричиняє значний вплив на ринок. Для реалізації концепції реформування ринку необхі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та 2 етапах знизити розмір дотаці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ішити, де буде формуватися джерело для забезпечення дотацій: в пулі, на ринку двосторонніх договорів чи в якійсь пропорції між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альшому, розробити та запровадити  механізм субсидування побутових споживачів поза межами галузі, принципово змінити тарифну політику по відношенню до цієї групи споживачі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ове підвищення тарифів до рівня ринков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вадження блочних тарифів з прямою підтримкою споживачів в межах соціальних норм спожи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F68A-D26D-4102-A699-9D403A413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28800" y="214200"/>
            <a:ext cx="764676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блеми при переході до нової моделі ринку, пов</a:t>
            </a:r>
            <a:r>
              <a:rPr b="1" lang="en-US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’</a:t>
            </a:r>
            <a:r>
              <a:rPr b="1" lang="uk-UA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язані з державною політикою</a:t>
            </a:r>
            <a:r>
              <a:rPr b="1" lang="en-US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uk-UA" sz="3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 сфері запровадження єдиних тарифі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428760" y="2070000"/>
            <a:ext cx="85723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нок двосторонніх договорів та запровадження енергетичної біржі створюють більш сприятливі умови для промисловості, а також формують адекватні цінові сигнали для кожної групи споживачів або кожного окремо взятого споживача в залежності ві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а споживання електроенерг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в приєднання до мереж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их фактор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ереження дії єдиних тарифів унеможливлює отримання споживачами адекватних цінових сигналів і значно знижує ефективність впровадження нової моделі р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3:07:33Z</dcterms:created>
  <dc:creator>Antonenko</dc:creator>
  <dc:description/>
  <dc:language>en-US</dc:language>
  <cp:lastModifiedBy>Punina</cp:lastModifiedBy>
  <dcterms:modified xsi:type="dcterms:W3CDTF">2008-09-21T09:57:08Z</dcterms:modified>
  <cp:revision>244</cp:revision>
  <dc:subject/>
  <dc:title>Тема доповіді: “Практичні рекомендації щодо контролю розрахунку тарифів, коригувань і коригуючих платежів та аналіз їх впливу на фінансовий результат"</dc:title>
</cp:coreProperties>
</file>